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D8A-476F-4759-8976-E6478123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567-0C0F-4745-84A5-6A226C7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A9C-8D52-454B-8066-93C00856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E5D-7A20-440F-AB44-B078BD72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55A-0005-459D-BE64-1E4019A4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B5BA-9D40-449B-A4D3-FB07033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6A4E-13BC-4E81-BD63-3F02E572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232-7E64-4C12-B9AB-BD04008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244B-D558-4D24-AF2C-DD1E767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9264-F5C2-4F10-AACB-F2DAA23D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3ACE-DB0F-4E88-AA9B-CA88964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774-170A-4E4C-AA0C-8F50C2DB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F912-A82A-41D6-B7BC-C5814FC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43C-3175-4F5A-A2E0-4ED6E8E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AA7-5346-4188-8254-0AD0806B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455-F244-4104-804F-2ED3CA83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3F3-3A04-40EF-9F50-940383F5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AB8-663E-4D3D-8E0C-93447D8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807-9CE3-4140-849D-C0DDD0F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6B8-F9DD-458D-9B2A-7FB865C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D81-B65D-4284-B45B-218C3DB3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990-5376-444E-AADB-B044EA70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610-49A2-425B-A0FE-77A24CC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C1C-6993-4310-BBFE-0B4A6F1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200-EE59-4083-AEF7-316C7C249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11D-8439-4991-B62C-1F39A0DAE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50B-A559-42E2-9A21-D5490C2D86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052-480E-40F2-BCD6-D30B20D4FE0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E9B-A733-48AF-BB5A-E42888FC0D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: 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452-B050-4E2D-83BB-F1CB936BC0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886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solution: Reduce # cells on a bit-line               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is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Data-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3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276720" cy="21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043-BDC9-4FB2-97D9-A9522FCDDB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530-BB13-46CB-82C0-3157B0C0AE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49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F75-5C71-4AF7-931E-60603FA2B4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63A-063B-4B86-8171-9D9B1B4074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F73-7CB1-47A5-B572-6066760C1B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4-22T04:41:28Z</dcterms:modified>
  <cp:revision>46</cp:revision>
  <dc:subject/>
  <dc:title>Bit-Line Leakage Cancellation:  Design and Test Automation</dc:title>
</cp:coreProperties>
</file>